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D4E-A920-46AE-A2CC-7694E9C9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4E0-F59F-4668-AEAE-C97E47A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FD7-6547-46D8-882D-44542693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062-685E-40D1-9BC1-01B45BB7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B52-CC20-4727-AA5F-3FAE62CF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304-B1EC-48E6-8A9E-D3C2ED2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D2C-1584-489C-B82F-9EEDBAED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294-561D-4C27-87E0-8507EE4B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94E-7CE5-462C-B491-78AE793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B96-B2AF-4B03-AA3E-CE2A260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3D8-0158-4959-BB6C-C68FD5B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ED2-922A-4AA4-BB70-34DF46E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31E-C1DC-4C58-BAC1-28831CE516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User</cp:lastModifiedBy>
  <dcterms:modified xsi:type="dcterms:W3CDTF">2022-01-11T14:28:00Z</dcterms:modified>
  <cp:revision>20</cp:revision>
  <dc:subject/>
  <dc:title>Слайд 1</dc:title>
</cp:coreProperties>
</file>